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103-1B20-4ADD-A5A2-69ADF0C4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7FA-B505-4318-AA48-522377E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65B-58D5-405B-8A94-5EE23056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A17-E150-4679-ABB0-E8F6D716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594B-E8FB-4344-9660-5D034531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8769-F052-4FF9-A984-0CFEA1D5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45CC-F4C0-4228-A2AF-1E7A605B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8C91-7CDF-48BB-99B8-500699CF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AC18-4B46-4217-8F12-25B0A3AB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CE1C-72DA-4D3C-80B1-7022A3D7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C2EF-6D4A-4437-8852-03EF06CD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55D-746C-4ECC-AB62-4822E096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B233-62B1-44B5-97C0-B85AAF3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87DD-3C0B-42BC-8A88-265513D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468C-0F0C-4819-899E-8B6AE860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25E1-A6F6-4708-8811-414278FB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C837-4F83-461B-ADB9-FE9040D2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D21-B05D-433D-92B9-8A454089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386-5F14-441B-B76F-6240C5E8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A2B-3346-4E61-80B6-359EFDD0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9A4-414B-47DC-AFFE-CE5EAA03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973-940E-4AA7-ABBD-E3FA733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4E5-B1C8-4B64-ABB5-89FFDA7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A49-D988-4C80-8B08-4C5AAF0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E056-CF54-497B-939C-5344A5BBF0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2E38-3409-4A48-88B2-7A84B0AFA1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otvet.ru/articles/opredelenie-prichastie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Причастие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как часть речи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0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6 клас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9968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 Black"/>
              </a:rPr>
              <a:t>Для чего нужна речь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C:\Users\р\Desktop\i (1).jpg"/>
          <p:cNvPicPr/>
          <p:nvPr/>
        </p:nvPicPr>
        <p:blipFill>
          <a:blip r:embed="rId1"/>
          <a:stretch/>
        </p:blipFill>
        <p:spPr>
          <a:xfrm>
            <a:off x="3143160" y="2714760"/>
            <a:ext cx="3000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327368-250px_king_hyrule_large"/>
          <p:cNvPicPr/>
          <p:nvPr/>
        </p:nvPicPr>
        <p:blipFill>
          <a:blip r:embed="rId1"/>
          <a:stretch/>
        </p:blipFill>
        <p:spPr>
          <a:xfrm>
            <a:off x="1116000" y="189000"/>
            <a:ext cx="190188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snowwhite_wp_04_800"/>
          <p:cNvPicPr/>
          <p:nvPr/>
        </p:nvPicPr>
        <p:blipFill>
          <a:blip r:embed="rId2"/>
          <a:stretch/>
        </p:blipFill>
        <p:spPr>
          <a:xfrm>
            <a:off x="5076720" y="189000"/>
            <a:ext cx="31687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8"/>
          <p:cNvGrpSpPr/>
          <p:nvPr/>
        </p:nvGrpSpPr>
        <p:grpSpPr>
          <a:xfrm>
            <a:off x="324000" y="2708280"/>
            <a:ext cx="3995640" cy="1330200"/>
            <a:chOff x="324000" y="2708280"/>
            <a:chExt cx="3995640" cy="1330200"/>
          </a:xfrm>
        </p:grpSpPr>
        <p:sp>
          <p:nvSpPr>
            <p:cNvPr id="106" name="Text Box 10"/>
            <p:cNvSpPr/>
            <p:nvPr/>
          </p:nvSpPr>
          <p:spPr>
            <a:xfrm>
              <a:off x="755640" y="270828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Король Глаго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324000" y="3213000"/>
              <a:ext cx="39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Грамматическое знач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- действ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18"/>
          <p:cNvGrpSpPr/>
          <p:nvPr/>
        </p:nvGrpSpPr>
        <p:grpSpPr>
          <a:xfrm>
            <a:off x="4534920" y="2637000"/>
            <a:ext cx="4603320" cy="1329840"/>
            <a:chOff x="4534920" y="2637000"/>
            <a:chExt cx="4603320" cy="1329840"/>
          </a:xfrm>
        </p:grpSpPr>
        <p:sp>
          <p:nvSpPr>
            <p:cNvPr id="109" name="Rectangle 11"/>
            <p:cNvSpPr/>
            <p:nvPr/>
          </p:nvSpPr>
          <p:spPr>
            <a:xfrm>
              <a:off x="4534920" y="2637000"/>
              <a:ext cx="460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Королева Прилагатель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4968360" y="3141360"/>
              <a:ext cx="393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Грамматическое знач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- призна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Line 15"/>
          <p:cNvSpPr/>
          <p:nvPr/>
        </p:nvSpPr>
        <p:spPr>
          <a:xfrm>
            <a:off x="3132000" y="3933720"/>
            <a:ext cx="1008360" cy="503280"/>
          </a:xfrm>
          <a:prstGeom prst="line">
            <a:avLst/>
          </a:prstGeom>
          <a:ln w="63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5003640" y="3933720"/>
            <a:ext cx="1152720" cy="503280"/>
          </a:xfrm>
          <a:prstGeom prst="line">
            <a:avLst/>
          </a:prstGeom>
          <a:ln w="63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3" descr="i (1)"/>
          <p:cNvPicPr/>
          <p:nvPr/>
        </p:nvPicPr>
        <p:blipFill>
          <a:blip r:embed="rId3"/>
          <a:stretch/>
        </p:blipFill>
        <p:spPr>
          <a:xfrm>
            <a:off x="3780000" y="4581360"/>
            <a:ext cx="1384200" cy="2076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473040" y="515772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нц Причас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5211360" y="5157720"/>
            <a:ext cx="39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Грамматическое 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imes New Roman"/>
              </a:rPr>
              <a:t>Вопросы, на которые мы должны ответить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 чем различие устной и письменной ре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овы особенности письменной ре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Что такое причаст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овы признаки причасти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 какой речи чаще употребляется причастие? Почем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Продолжительность проек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565000"/>
            <a:ext cx="8007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-63180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Проект рассчитан на 10 час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Представление результатов исследования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-64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Изложени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80" indent="-64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очинени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80" indent="-64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ворческая презентац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Информационные ресурсы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Что такое прича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пределение причастия и его призн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ичастный обор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истика 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бразование причас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потребление 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истика 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imes New Roman"/>
              </a:rPr>
              <a:t>Автор проект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Буркан Алис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0:35:51Z</dcterms:created>
  <dc:creator>Алиса</dc:creator>
  <dc:description/>
  <dc:language>en-US</dc:language>
  <cp:lastModifiedBy>студент</cp:lastModifiedBy>
  <dcterms:modified xsi:type="dcterms:W3CDTF">2011-04-13T04:30:14Z</dcterms:modified>
  <cp:revision>19</cp:revision>
  <dc:subject/>
  <dc:title>Причастие как часть ре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